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12C8-ADE7-426F-9412-CDD6ED724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DD57-6F08-4FC1-839D-1EF95C74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E09162-F6C2-448C-9799-92A129D6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12D5E2-7CA6-4D0A-BC76-2E107F9D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EE49FA-0F2B-4E3A-AC63-D24C5573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9858F1-AA5A-4594-84CE-2AAF71DD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B9E47C-8D60-4781-8BC3-A2CD2534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5CE0F8-ED1E-4708-8F5C-71945BE6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DDECCF-6BBC-4562-9BD4-963A58AA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86F8BE-35E1-47DF-99F3-1E8F0C2B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5AB01F-4C56-4EA6-8DF3-CE2196C4D2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BCEA0-0E71-4E93-8B7A-7E04648F7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33C7-6A27-4CD3-9219-17F4785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A8FAB-4E7E-4A67-AF8E-46A25453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19495-4346-4C03-99AD-207780B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CA8F3-F5FF-49DD-B842-7FF6BFCE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F2528-7101-442A-96AC-CD7C7549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D7C33-2010-4F8D-B20A-BF27345C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1655D-57D8-4B4C-847D-0E89FE38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ED983-C8EF-4086-A606-8D5B247B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CB6E8-0B32-4426-9E4A-1F9A973A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E96B1-F048-4EB9-990C-D03F1725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9847F-C0A9-4A92-97B7-B9C48DDD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CB66-D82C-4296-88A0-3D1EC14C16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1F635-7B5C-47A8-B5BD-FC1A0214F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AE0859-51E9-480C-8BE1-0E05FB9B1C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74DB4D-F86C-48D5-A589-96629D3F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1DFD41-F9C7-4808-8A58-52B831B9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EE9E3F-661D-436D-ABE7-863F9110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F33DE-E5E2-4CED-8653-A1C2E3A5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B157EA-8B2C-4902-9B82-47B54DAC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6CA356-8906-41EF-9E9B-A743B8BA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A1603C-13B8-472E-8263-E032C1CA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2DDF7F-7C75-47AB-8F32-523AB8B9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EE4B9-09C7-4EB5-B4C1-AF3DBB79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9FB2D3-9CFB-42A5-9AC5-158D3C8A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ABAA6-AD6B-4A00-ADFA-7296A1B3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D8B03C-D965-4CC0-923D-C0D42E9CF0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106A4-6A87-4AD4-B383-5AA3BCADD0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D8ECA-AF3A-475C-9F21-EF0FB04C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2B03B-0458-43C3-A815-742C4C70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3B64E-41C3-4CF8-BF88-E1BD5183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1B4A6-E9B7-468F-A27C-943A3EB4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692E2-D6ED-412E-88E7-E8FBC0EB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4F972-624F-4100-8F41-E0A0C6F3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B7A4E-B7EB-4619-9C44-DF30344F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0ED02-7E1C-4833-A54F-78438001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341AD-BE70-44C4-8748-A7DDAA7C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554A9-F123-45AA-9732-E1891853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2F693-B1C5-402C-8DF6-54ADC718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54626-04F7-4057-8EBC-C63A9234CF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2D23D-9599-49EF-AC8F-DDA2B39B8A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6FF1C-C768-4854-B527-956A1240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11999-F6D3-4064-B94A-05194D88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EF87A-BC69-4E39-BF2C-3BEA6067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C5B95-283A-440A-BE21-F29734D1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BA034-E472-4DAD-94C7-6A081714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878C4-655B-4D34-AE10-6EABFB75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7B23E-D707-420A-B6AE-6661FF0E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00470-D5F0-4F34-97F8-AA2192A9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CEB11-479A-458C-9F6D-F91FF148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08392-D3C8-4F8B-A51A-F0C2CB64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A1030-3819-49B7-B250-F4DE9174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CE42A-8F23-4E9A-A170-5BF29F3A6C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1BD34-EB81-4A54-8457-663F52E5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963FB-09A3-49BE-8CDD-8CF5D190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9CEE5-726A-4E09-B534-9E12AD7B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1B7EA-580B-43D0-A75D-E6436F2E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5B0E5-5B91-4644-8239-B401E31E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B2984-51BB-4C82-BAA0-F65579BC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7F260-BD89-438E-8A5D-BADB556B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75663-8D78-4496-B1AE-132FF68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ACD62-D6A9-42E3-86FD-92D42881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69419-12CC-413D-8B31-383FB79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66A8C-6735-45DF-80DB-9E8E06B4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B5CFA-34A1-4557-8EF7-051F017E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839D8-6173-41D6-8C42-0260454A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A1799-4455-4EA4-9416-203AE296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327B5-D5A9-4FCF-B6A2-68AE2146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A50EB-8C48-45CD-ADF5-C495B620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7ED7A-B4F2-4919-A6BA-CDDECA5E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DB582-9A50-4946-904B-81FD727F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1EF06-B471-4B5B-B370-8C2101A8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0C4EE-A204-4B16-A72F-279FD17B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BDD0A-646B-4A9E-8B24-A357BC0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D29C7-6FF9-428A-A9F0-AB4C1C7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26E68-D010-4CD8-9CE7-7FD5945E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2C1E3-93C1-4003-8C79-C0BCDEEC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D074A-3872-4647-A7D4-391763BE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B00B2-228A-4360-AA4B-A7498429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C5858-8885-4BC7-882C-5D668E28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FF821-2D56-4119-8D3E-A7EEC467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7818C-96DC-4636-BBB7-5A4C1825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EA88A-D6E9-4B27-80F3-7A625A93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71522-C68B-47A5-BB3C-26D162BD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7DAB7-9858-4CEE-AB9B-755A8ACA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4F9C7-A9BD-474E-8D4F-DC43C101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78F86-2BCA-4F3C-B064-5E7CFA6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1B46C-9479-4F15-8E42-8911B79A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2E283-F1C6-4A31-8134-0B6BB46D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CF9F9-2914-491D-86AF-613E4C30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5D5A8-CC75-49F9-B015-CD2A653C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ECC44-FC0A-4FE3-B1A3-9DF47404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070F7-903A-4B3A-9A50-EF7D3864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4A008-091C-48C1-85A0-86C96448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358DB-4C20-4D8A-95DA-61F68D1A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42CF5-DEDB-4804-8B16-E724C25E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54259-9661-47AA-BC17-C3155333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8CD5B-5F4D-4F58-A7F0-F138D764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FAC69-962D-4826-9C0C-E1DCF63A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2A964-7F53-418D-87B1-E7ACCFD9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5CC0F-9E81-4127-9D1E-4A877B54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8E33-B7C7-4C4F-80D5-29C0211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63690-8B49-4655-94EC-C806F192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F1C66-9EDD-4094-9DEF-F322F00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7F5A9-9579-4F46-8DE0-81FA76F2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2C0A9-BD6E-4175-B4FA-B344CC01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E9F78-10CC-407A-BDCE-F243C5BB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C40F4-2AA4-40A3-8644-1DD96759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DD282-623E-4317-9A7F-280DC903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2ADCF-FE5E-410E-A428-D590D287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4BD08-A631-4716-8306-252354FE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29558-700C-4355-B3D1-1FF23F14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7A3A6-B0C4-4177-A24D-6459B612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611E7-BCCC-476D-8D7F-A8A09F1A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76A9F-E933-4E78-A887-5D52855D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86438-BAF2-4EAB-810D-A7325BDE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037F0-7337-4222-9937-4982C4D9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4B80F-F709-4EAA-A266-8CE227ED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38D26-FBC3-49EC-8F24-E1821C69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AB56F-D7B7-4172-B8C9-B42527E8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1DE88-4D5F-4182-919B-101FECD9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B2C0B-D47D-4184-9FF6-73DE2915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B9C99-B39A-4D98-B392-C02B2492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5AF7D-44E4-45A2-B99A-5101354D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7CA8B-878C-4EFE-9AAC-8D314EB4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BA92BC-093C-4899-90E7-0D784A8F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67505-2AFF-4164-BCFC-FD78A4A9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BA98C-792C-40C1-AFE0-A57DF728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A36A6-269A-4326-98ED-0963CF9E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B61E8-D0A7-4602-AAAD-8C6BCBEA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7967B-008A-4034-AC3E-302C181A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462E0-D932-4EBE-BBF3-97F27FDF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E60B4-2903-41D3-9C03-41D2660E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BF510-A699-4E94-AA56-056E91DE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2A30C-7F75-496B-8F13-15E52F7E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6E7C1-6823-4925-8D62-C8F593B0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C5186-B679-47AB-B221-28B45004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576AB-D3B7-4590-BE18-A5823AF8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229BE-C53F-49E8-8658-B7CEF3C8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1B3FC-BDF6-438F-8DFD-2D352E3D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F288E-5C14-4574-93D2-4BEF7CC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55E22-173A-47C4-B817-FA8AD77F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5EC386-8B3D-4C9E-A09D-E1F7CE69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61619-16A0-4C26-9EEC-02FB8449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2B3A3-3EB7-4DF4-805D-E998A002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C3862-B2F6-42C3-B58C-CBDDBC96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E4877-658B-448B-9ACD-8B1E2E43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FABA2-B656-4788-BABE-227663D3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94CB2A-EC7C-4926-ABB5-5C45422F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E05D0-33A6-4C5D-9A3B-A8F1EE4D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E4AF9-75D7-4CFF-B2E3-17FFB570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B5D36-5E9F-4248-84EE-7BC5CA41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1A1D2B-6CD0-4225-904B-5E9CAFF4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13B8C0-A789-42FC-808B-BDC49D7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5CA9FB-8410-4F45-90AB-EB5F458F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08549-283F-45B4-BD18-A7B18A51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A18DE-335E-4B11-9752-39FD690E2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0E741-7B89-46CB-8604-AF816B5E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1BDC6-D5B8-4D0D-904C-B94DA67C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C74E8-AB77-4F17-946C-25B0C812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589A0-DC0B-4F3B-8346-CEFE1741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E4F970-B7E8-4399-B204-723CB8B3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7AC53-7F6A-409E-898D-760FA52B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9F354-00D9-49F8-A38D-03D114F2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01A647-B087-41DA-B289-DF55C0F3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102CA-7A0A-4296-887F-C5B143FF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BAB89-F89E-410D-B270-A6544823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B168B-9020-450C-BF60-820FDC26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610525-2223-4BCE-ACCE-C6384A16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6867F5-3ACC-44B7-85BC-99354348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D418E4-AFAE-45A4-B5EA-945C014F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DE9A6-6ACD-46C5-B070-782F2414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9CCA4-64D1-435E-8FDF-584A405D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FC73A0-0625-4532-A91C-2C262789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EE1D55-7D15-4F55-8C4F-898E280F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9CF31A-B96C-4566-B173-5BC423D5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F4E2F8-99BF-469D-85E7-0974C368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7F677-A5D4-4AC9-AEBC-F083E354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EEB08-BA85-4E34-B50B-01F76E49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F31068-BD2E-48A5-BC57-0E825D53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57D7B-15F4-4C3B-B486-49023A11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0A0A9-589A-419D-A559-15361383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D4454-1140-41E4-B29A-A5D09737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ECE93-0CC8-4D5D-B0A0-0615D392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EEB9E2-9F0A-455B-908A-2B20BC34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2BF2BB-B127-4423-BFC6-48C1DCF3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A7752D-1489-4569-B438-E14537C7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800006-3498-4B61-B35B-AF335711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C7D01-7FC0-44B1-B424-EE7C4404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891110-E74B-4FCE-A103-F6591132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23ACDC-23A0-4900-9A17-CDC8F785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68936-A8D0-4E9A-A40B-696D46D1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C37FAC-C488-472D-9842-5670C5F0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F9532-2D49-459C-896B-06F193E9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F36DD4-2C5A-4381-A23F-9641B139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6D535-1AFC-4FD9-B649-1829AD17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34DA11-185A-41DD-AC1C-385FB73B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54A54-7D86-4920-AC2F-96AEEB17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8814B-59E0-4BC2-80C5-99CD98E0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FB662-976E-4921-87F4-9E1121A2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5807-2C68-4135-9AEF-04CED21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92AE83-3409-4ABB-9F10-6B3586B3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B4B56-EA1B-4DA2-BB0E-A015EC94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93A1E7-62FA-4A82-AC71-AA18F667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310A7A-DE78-4D1D-B149-18738F5D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CFFCBD-6332-45A8-B7BB-A05BC020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41980-0DB8-4CE3-88AE-4F8136AE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69E4B-921B-4624-8149-1BE749845A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0B5D-4B7F-4C11-A666-C91C2635FA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EE2A-36B9-4949-8DD4-EBF061A8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B28A-5F7A-4550-9301-953ED73D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9402-AED5-41FF-BFA8-2C336621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DC2D-7B20-4620-8CE8-A9C1F46B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6864-A175-4C28-981B-CAEDCFB9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A86B-0F7B-4E62-962B-F9591668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40A85-BFF0-4100-950A-EF352E0F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C428-54E5-4545-BF01-AF77D4BB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61D2F-50AE-42FE-AB49-5EA4894C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EAB0-A212-4CEE-8DEF-0FE330FC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1476-5468-4D64-9E3C-11284EA6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A892F-9CE6-4F68-BBAD-2F786F0D00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C03B2-AE86-45F9-B620-F2CD6F5532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39BC-AAC1-4FE9-8423-65B5812B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EEE5A-5AC2-446E-8727-882D5C2B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E5B30-8FE5-4D87-9463-41DE253A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01DDE-69AF-4761-9C37-81796BE6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B0DAE-DDDC-4CAE-9E0D-A3BF8316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E5434-BB31-48AE-A88C-4E9FA157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832F0-E93D-46EF-83B3-ADE55671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980C8-219D-4C07-86EA-6DB75CEC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4DD9F-852F-45E1-B01C-418A30BB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072ABA-7961-4C0B-8FF5-AF99F17B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AC8CC-31E2-471A-BB94-C473D38B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F7A6-E780-4447-9D13-BA962A2B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62285-2DB3-49A2-83C0-AAF35FEC1C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2FAC64-BA7F-47A6-AD36-216D5EEEB3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50878B-516F-4A59-A9DA-1696116B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35EB54-84A5-495A-895E-004248D2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C89130-3EAA-4EEC-81E3-77EB47D2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AA100F-CB40-4123-A99E-617EBA28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E2849E-58B4-4CEF-8DB2-2B398E43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D94280-FA1A-470B-B979-F404FFD6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5CC4A5-78CD-4BED-B21D-97D3EA16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5A4D68-413D-4930-9E1C-31D6EB73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719BA-2D42-4A19-B42A-37CA57E0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DE40D8-872E-4F36-984D-0048ADB3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F1A80D-A37B-4952-9F38-04F8364C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67399C-0993-4403-A7D3-90F45DE919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6F480-0B07-4719-8DE0-5D5EB8288E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C5DC2-FD9C-48C7-ADD2-7AD2FA85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0C9F8-D93F-4CDE-AA41-1D7D3562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B66B3-1742-4979-B051-69D89E86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D86F8-8ED3-4ADF-856B-5A506373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98D8A-D538-4537-84F3-76FFEF38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FBC25-D651-4532-BE8F-EA39289B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A29C-9857-49C1-BFCB-71F239B8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D6A2E-C40C-43BB-8BA9-62108020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4F822-E628-4C32-91FA-DA629F89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381B7-CE62-4B50-8B1E-00292F15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81BAF-D4F3-42AB-BABC-A1B1E9A3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A7677-9847-4E3E-9F2E-BD46656B69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A3860-4832-4D76-AC69-9FBA9276A6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E3673-3DA0-4983-AB50-2A6006D4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CB82F-ABA1-4817-98FB-0BA0F8EC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C0584-607B-45AF-A461-5DB2EBF5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AC815-8A45-4808-A499-44E7483A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1DF4-13CE-43BD-BFBC-D163CCE3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49028-DAE3-4A27-B4B5-3ED7FE92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FAED1-38FA-4A8F-B640-D2DD8649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F3BC6-169D-4770-96E3-264D2BF6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7A1EF5-E73C-49FA-9EF9-AD8397DE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D7007-E08D-4196-BE40-880268B1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C95D2-B1E4-4BAE-B894-A052CA9D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8B251-E3C2-4EBB-B57A-1A556B588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FE0CBB-1E8F-495E-8B64-7E225D3776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FBDBEF-86BD-46F5-8B91-A57967F3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D01EF8-7215-4442-896A-314D4DCA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365-8FFD-44E5-A133-7D245683DD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427B-A4F7-4A8A-B463-DBA65DF993E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ACFE-81A5-4CAE-B73B-39A345FC61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E6E0-BCA7-475C-8957-386070E45B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DDB6-F62C-4FF5-AEB6-DA647E45BE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E580-B1EB-4671-864E-AB5C098BB7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D2A4-89EB-4420-BDA3-F32303F57B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69CE-4E32-40E5-A13F-4BF47B310D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AB42-B2B6-4A47-B307-2B576BB13B3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74C0-5701-4042-9AFA-A02EDBD3EFD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1109-8A97-4210-96E1-3DE87AEF513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FC46-9303-4480-95DF-9E03425331B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3AD5-4B3F-4F83-A3CC-2DDDAD880B0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FB68-D2DF-4BD9-8004-B6BBFF5F834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2C54-D2B2-446E-8DDE-B304DC6E67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1DD3-6542-416F-A902-D309E87B28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E4F2-7AA0-4B4A-95D5-6C6C42E2FB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3DE5-9831-4C2F-B63F-CC4D5AD7403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81C5-B367-4F37-8F90-4905DFEFF6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C446-BBCF-4B21-AE5A-F89249F5194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A6CC-4F14-4FCA-8066-C567603324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920D-524A-43C2-8951-F055E86835C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7BC4-BBDD-4CC3-8DF6-A33A014954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8F8F-F53D-4783-BAE4-C1DE3B42555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4750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不 进 位 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6520" y="1816200"/>
            <a:ext cx="91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内容占位符 5" descr="图片2.png"/>
          <p:cNvPicPr/>
          <p:nvPr/>
        </p:nvPicPr>
        <p:blipFill>
          <a:blip r:embed="rId1"/>
          <a:stretch/>
        </p:blipFill>
        <p:spPr>
          <a:xfrm>
            <a:off x="500040" y="1779480"/>
            <a:ext cx="3780000" cy="1500120"/>
          </a:xfrm>
          <a:prstGeom prst="rect">
            <a:avLst/>
          </a:prstGeom>
          <a:ln w="0">
            <a:noFill/>
          </a:ln>
        </p:spPr>
      </p:pic>
      <p:sp>
        <p:nvSpPr>
          <p:cNvPr id="999" name="TextBox 6"/>
          <p:cNvSpPr/>
          <p:nvPr/>
        </p:nvSpPr>
        <p:spPr>
          <a:xfrm>
            <a:off x="2150640" y="843120"/>
            <a:ext cx="41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班和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班一共有多少名学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图片 7" descr="REJA9.tif"/>
          <p:cNvPicPr/>
          <p:nvPr/>
        </p:nvPicPr>
        <p:blipFill>
          <a:blip r:embed="rId2"/>
          <a:stretch/>
        </p:blipFill>
        <p:spPr>
          <a:xfrm>
            <a:off x="4857840" y="1785960"/>
            <a:ext cx="3860640" cy="1393920"/>
          </a:xfrm>
          <a:prstGeom prst="rect">
            <a:avLst/>
          </a:prstGeom>
          <a:ln w="0">
            <a:noFill/>
          </a:ln>
        </p:spPr>
      </p:pic>
      <p:grpSp>
        <p:nvGrpSpPr>
          <p:cNvPr id="10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02" name="圆角矩形 1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5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2" name="Rectangle 64"/>
          <p:cNvSpPr/>
          <p:nvPr/>
        </p:nvSpPr>
        <p:spPr>
          <a:xfrm>
            <a:off x="509760" y="15732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一、探究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八边形 2"/>
          <p:cNvSpPr/>
          <p:nvPr/>
        </p:nvSpPr>
        <p:spPr>
          <a:xfrm>
            <a:off x="314280" y="7794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9"/>
          <p:cNvGrpSpPr/>
          <p:nvPr/>
        </p:nvGrpSpPr>
        <p:grpSpPr>
          <a:xfrm>
            <a:off x="365040" y="3560760"/>
            <a:ext cx="8310600" cy="1540080"/>
            <a:chOff x="365040" y="3560760"/>
            <a:chExt cx="8310600" cy="1540080"/>
          </a:xfrm>
        </p:grpSpPr>
        <p:grpSp>
          <p:nvGrpSpPr>
            <p:cNvPr id="1015" name="组合 3"/>
            <p:cNvGrpSpPr/>
            <p:nvPr/>
          </p:nvGrpSpPr>
          <p:grpSpPr>
            <a:xfrm>
              <a:off x="365040" y="3560760"/>
              <a:ext cx="1884240" cy="459720"/>
              <a:chOff x="365040" y="3560760"/>
              <a:chExt cx="1884240" cy="459720"/>
            </a:xfrm>
          </p:grpSpPr>
          <p:sp>
            <p:nvSpPr>
              <p:cNvPr id="1016" name="TextBox 3"/>
              <p:cNvSpPr/>
              <p:nvPr/>
            </p:nvSpPr>
            <p:spPr>
              <a:xfrm>
                <a:off x="469440" y="3560760"/>
                <a:ext cx="177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理解题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缺角矩形 37"/>
              <p:cNvSpPr/>
              <p:nvPr/>
            </p:nvSpPr>
            <p:spPr>
              <a:xfrm>
                <a:off x="365040" y="368136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文本框 8"/>
            <p:cNvSpPr/>
            <p:nvPr/>
          </p:nvSpPr>
          <p:spPr>
            <a:xfrm>
              <a:off x="586440" y="4275360"/>
              <a:ext cx="808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二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班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，二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班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，两班一共有多少名学生，就是把两个班的人数合起来，用加法计算，列式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+3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4" descr="图形3.tif"/>
          <p:cNvPicPr/>
          <p:nvPr/>
        </p:nvPicPr>
        <p:blipFill>
          <a:blip r:embed="rId1"/>
          <a:stretch/>
        </p:blipFill>
        <p:spPr>
          <a:xfrm>
            <a:off x="355680" y="4030560"/>
            <a:ext cx="6762600" cy="1089000"/>
          </a:xfrm>
          <a:prstGeom prst="rect">
            <a:avLst/>
          </a:prstGeom>
          <a:ln w="0">
            <a:noFill/>
          </a:ln>
        </p:spPr>
      </p:pic>
      <p:sp>
        <p:nvSpPr>
          <p:cNvPr id="1020" name="TextBox 6"/>
          <p:cNvSpPr/>
          <p:nvPr/>
        </p:nvSpPr>
        <p:spPr>
          <a:xfrm>
            <a:off x="2036880" y="7556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一：口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组合 38"/>
          <p:cNvGrpSpPr/>
          <p:nvPr/>
        </p:nvGrpSpPr>
        <p:grpSpPr>
          <a:xfrm>
            <a:off x="235080" y="749160"/>
            <a:ext cx="2147400" cy="459720"/>
            <a:chOff x="235080" y="749160"/>
            <a:chExt cx="2147400" cy="459720"/>
          </a:xfrm>
        </p:grpSpPr>
        <p:sp>
          <p:nvSpPr>
            <p:cNvPr id="1022" name="TextBox 3"/>
            <p:cNvSpPr/>
            <p:nvPr/>
          </p:nvSpPr>
          <p:spPr>
            <a:xfrm>
              <a:off x="339480" y="74916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缺角矩形 40"/>
            <p:cNvSpPr/>
            <p:nvPr/>
          </p:nvSpPr>
          <p:spPr>
            <a:xfrm>
              <a:off x="235080" y="86976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4" name="内容占位符 4" descr="图形4.tif"/>
          <p:cNvPicPr/>
          <p:nvPr/>
        </p:nvPicPr>
        <p:blipFill>
          <a:blip r:embed="rId2"/>
          <a:stretch/>
        </p:blipFill>
        <p:spPr>
          <a:xfrm>
            <a:off x="2600280" y="1449360"/>
            <a:ext cx="3527640" cy="11095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8" descr="REJA8B.tif"/>
          <p:cNvPicPr/>
          <p:nvPr/>
        </p:nvPicPr>
        <p:blipFill>
          <a:blip r:embed="rId3"/>
          <a:stretch/>
        </p:blipFill>
        <p:spPr>
          <a:xfrm>
            <a:off x="2633760" y="2700360"/>
            <a:ext cx="2658960" cy="1071720"/>
          </a:xfrm>
          <a:prstGeom prst="rect">
            <a:avLst/>
          </a:prstGeom>
          <a:ln w="0">
            <a:noFill/>
          </a:ln>
        </p:spPr>
      </p:pic>
      <p:sp>
        <p:nvSpPr>
          <p:cNvPr id="1026" name="直接连接符 9"/>
          <p:cNvSpPr/>
          <p:nvPr/>
        </p:nvSpPr>
        <p:spPr>
          <a:xfrm>
            <a:off x="258840" y="3838680"/>
            <a:ext cx="73897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10"/>
          <p:cNvSpPr/>
          <p:nvPr/>
        </p:nvSpPr>
        <p:spPr>
          <a:xfrm>
            <a:off x="4667400" y="1425600"/>
            <a:ext cx="0" cy="3817800"/>
          </a:xfrm>
          <a:prstGeom prst="line">
            <a:avLst/>
          </a:prstGeom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12"/>
          <p:cNvSpPr/>
          <p:nvPr/>
        </p:nvSpPr>
        <p:spPr>
          <a:xfrm>
            <a:off x="1231920" y="507996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+30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文本框 14"/>
          <p:cNvSpPr/>
          <p:nvPr/>
        </p:nvSpPr>
        <p:spPr>
          <a:xfrm>
            <a:off x="5376960" y="504684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+2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文本框 15"/>
          <p:cNvSpPr/>
          <p:nvPr/>
        </p:nvSpPr>
        <p:spPr>
          <a:xfrm>
            <a:off x="3814920" y="5686560"/>
            <a:ext cx="27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0+7=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Box 3"/>
          <p:cNvSpPr/>
          <p:nvPr/>
        </p:nvSpPr>
        <p:spPr>
          <a:xfrm>
            <a:off x="533520" y="865080"/>
            <a:ext cx="42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二：竖式计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组合 10"/>
          <p:cNvGrpSpPr/>
          <p:nvPr/>
        </p:nvGrpSpPr>
        <p:grpSpPr>
          <a:xfrm>
            <a:off x="620640" y="1671480"/>
            <a:ext cx="1774800" cy="1373760"/>
            <a:chOff x="620640" y="1671480"/>
            <a:chExt cx="1774800" cy="1373760"/>
          </a:xfrm>
        </p:grpSpPr>
        <p:sp>
          <p:nvSpPr>
            <p:cNvPr id="1033" name="文本框 2"/>
            <p:cNvSpPr/>
            <p:nvPr/>
          </p:nvSpPr>
          <p:spPr>
            <a:xfrm>
              <a:off x="620640" y="1671480"/>
              <a:ext cx="1774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70c0"/>
                  </a:solidFill>
                  <a:latin typeface="Arial"/>
                  <a:ea typeface="宋体"/>
                </a:rPr>
                <a:t>十  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 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  3   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直接连接符 3"/>
            <p:cNvSpPr/>
            <p:nvPr/>
          </p:nvSpPr>
          <p:spPr>
            <a:xfrm>
              <a:off x="746280" y="3004920"/>
              <a:ext cx="15642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组合 12"/>
          <p:cNvGrpSpPr/>
          <p:nvPr/>
        </p:nvGrpSpPr>
        <p:grpSpPr>
          <a:xfrm>
            <a:off x="3449520" y="1671480"/>
            <a:ext cx="1776600" cy="1800360"/>
            <a:chOff x="3449520" y="1671480"/>
            <a:chExt cx="1776600" cy="1800360"/>
          </a:xfrm>
        </p:grpSpPr>
        <p:sp>
          <p:nvSpPr>
            <p:cNvPr id="1036" name="文本框 4"/>
            <p:cNvSpPr/>
            <p:nvPr/>
          </p:nvSpPr>
          <p:spPr>
            <a:xfrm>
              <a:off x="3449520" y="1671480"/>
              <a:ext cx="1776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70c0"/>
                  </a:solidFill>
                  <a:latin typeface="Arial"/>
                  <a:ea typeface="宋体"/>
                </a:rPr>
                <a:t>十  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 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  3   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直接连接符 6"/>
            <p:cNvSpPr/>
            <p:nvPr/>
          </p:nvSpPr>
          <p:spPr>
            <a:xfrm>
              <a:off x="3575160" y="3005280"/>
              <a:ext cx="156564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组合 14"/>
          <p:cNvGrpSpPr/>
          <p:nvPr/>
        </p:nvGrpSpPr>
        <p:grpSpPr>
          <a:xfrm>
            <a:off x="6280200" y="1671480"/>
            <a:ext cx="1774800" cy="1800360"/>
            <a:chOff x="6280200" y="1671480"/>
            <a:chExt cx="1774800" cy="1800360"/>
          </a:xfrm>
        </p:grpSpPr>
        <p:sp>
          <p:nvSpPr>
            <p:cNvPr id="1039" name="文本框 7"/>
            <p:cNvSpPr/>
            <p:nvPr/>
          </p:nvSpPr>
          <p:spPr>
            <a:xfrm>
              <a:off x="6280200" y="1671480"/>
              <a:ext cx="1774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70c0"/>
                  </a:solidFill>
                  <a:latin typeface="Arial"/>
                  <a:ea typeface="宋体"/>
                </a:rPr>
                <a:t>十  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 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  3 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  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直接连接符 9"/>
            <p:cNvSpPr/>
            <p:nvPr/>
          </p:nvSpPr>
          <p:spPr>
            <a:xfrm>
              <a:off x="6405840" y="3005280"/>
              <a:ext cx="15642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41" name="直接箭头连接符 15"/>
          <p:cNvCxnSpPr/>
          <p:nvPr/>
        </p:nvCxnSpPr>
        <p:spPr>
          <a:xfrm flipV="1">
            <a:off x="2666880" y="2748960"/>
            <a:ext cx="594720" cy="1080"/>
          </a:xfrm>
          <a:prstGeom prst="straightConnector1">
            <a:avLst/>
          </a:prstGeom>
          <a:ln w="158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42" name="直接箭头连接符 16"/>
          <p:cNvCxnSpPr/>
          <p:nvPr/>
        </p:nvCxnSpPr>
        <p:spPr>
          <a:xfrm flipV="1">
            <a:off x="5481360" y="2743920"/>
            <a:ext cx="594360" cy="1080"/>
          </a:xfrm>
          <a:prstGeom prst="straightConnector1">
            <a:avLst/>
          </a:prstGeom>
          <a:ln w="15840">
            <a:solidFill>
              <a:srgbClr val="00b050"/>
            </a:solidFill>
            <a:miter/>
            <a:tailEnd len="med" type="arrow" w="med"/>
          </a:ln>
        </p:spPr>
      </p:cxnSp>
      <p:grpSp>
        <p:nvGrpSpPr>
          <p:cNvPr id="1043" name="组合 26"/>
          <p:cNvGrpSpPr/>
          <p:nvPr/>
        </p:nvGrpSpPr>
        <p:grpSpPr>
          <a:xfrm>
            <a:off x="1046160" y="3061800"/>
            <a:ext cx="927000" cy="1443240"/>
            <a:chOff x="1046160" y="3061800"/>
            <a:chExt cx="927000" cy="1443240"/>
          </a:xfrm>
        </p:grpSpPr>
        <p:cxnSp>
          <p:nvCxnSpPr>
            <p:cNvPr id="1044" name="直接箭头连接符 18"/>
            <p:cNvCxnSpPr/>
            <p:nvPr/>
          </p:nvCxnSpPr>
          <p:spPr>
            <a:xfrm flipH="1" flipV="1">
              <a:off x="1515240" y="3061800"/>
              <a:ext cx="1080" cy="82584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045" name="矩形 19"/>
            <p:cNvSpPr/>
            <p:nvPr/>
          </p:nvSpPr>
          <p:spPr>
            <a:xfrm>
              <a:off x="1046160" y="3863160"/>
              <a:ext cx="927000" cy="641880"/>
            </a:xfrm>
            <a:prstGeom prst="rect">
              <a:avLst/>
            </a:prstGeom>
            <a:solidFill>
              <a:srgbClr val="9beb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相同数位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组合 28"/>
          <p:cNvGrpSpPr/>
          <p:nvPr/>
        </p:nvGrpSpPr>
        <p:grpSpPr>
          <a:xfrm>
            <a:off x="4327560" y="3369960"/>
            <a:ext cx="927000" cy="1139760"/>
            <a:chOff x="4327560" y="3369960"/>
            <a:chExt cx="927000" cy="1139760"/>
          </a:xfrm>
        </p:grpSpPr>
        <p:sp>
          <p:nvSpPr>
            <p:cNvPr id="1047" name="矩形 24"/>
            <p:cNvSpPr/>
            <p:nvPr/>
          </p:nvSpPr>
          <p:spPr>
            <a:xfrm>
              <a:off x="4327560" y="3868920"/>
              <a:ext cx="927000" cy="640800"/>
            </a:xfrm>
            <a:prstGeom prst="rect">
              <a:avLst/>
            </a:prstGeom>
            <a:solidFill>
              <a:srgbClr val="9beb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先从个位加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8" name="直接箭头连接符 25"/>
            <p:cNvCxnSpPr/>
            <p:nvPr/>
          </p:nvCxnSpPr>
          <p:spPr>
            <a:xfrm flipH="1" flipV="1">
              <a:off x="4791600" y="3369960"/>
              <a:ext cx="1080" cy="50184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049" name="组合 36"/>
          <p:cNvGrpSpPr/>
          <p:nvPr/>
        </p:nvGrpSpPr>
        <p:grpSpPr>
          <a:xfrm>
            <a:off x="6845400" y="3431880"/>
            <a:ext cx="696960" cy="1133640"/>
            <a:chOff x="6845400" y="3431880"/>
            <a:chExt cx="696960" cy="1133640"/>
          </a:xfrm>
        </p:grpSpPr>
        <p:sp>
          <p:nvSpPr>
            <p:cNvPr id="1050" name="矩形 27"/>
            <p:cNvSpPr/>
            <p:nvPr/>
          </p:nvSpPr>
          <p:spPr>
            <a:xfrm>
              <a:off x="6845400" y="3924360"/>
              <a:ext cx="696960" cy="641160"/>
            </a:xfrm>
            <a:prstGeom prst="rect">
              <a:avLst/>
            </a:prstGeom>
            <a:solidFill>
              <a:srgbClr val="9beb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再算十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1" name="直接箭头连接符 35"/>
            <p:cNvCxnSpPr/>
            <p:nvPr/>
          </p:nvCxnSpPr>
          <p:spPr>
            <a:xfrm flipH="1" flipV="1">
              <a:off x="7183800" y="3431880"/>
              <a:ext cx="1080" cy="50184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  <a:tailEnd len="med" type="arrow" w="med"/>
            </a:ln>
          </p:spPr>
        </p:cxnSp>
      </p:grpSp>
      <p:sp>
        <p:nvSpPr>
          <p:cNvPr id="1052" name="矩形 37"/>
          <p:cNvSpPr/>
          <p:nvPr/>
        </p:nvSpPr>
        <p:spPr>
          <a:xfrm>
            <a:off x="684360" y="1557360"/>
            <a:ext cx="4535280" cy="2087640"/>
          </a:xfrm>
          <a:prstGeom prst="rect">
            <a:avLst/>
          </a:prstGeom>
          <a:noFill/>
          <a:ln w="12600">
            <a:solidFill>
              <a:srgbClr val="9595b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组合 41"/>
          <p:cNvGrpSpPr/>
          <p:nvPr/>
        </p:nvGrpSpPr>
        <p:grpSpPr>
          <a:xfrm>
            <a:off x="363600" y="4888080"/>
            <a:ext cx="2147400" cy="459720"/>
            <a:chOff x="363600" y="4888080"/>
            <a:chExt cx="2147400" cy="459720"/>
          </a:xfrm>
        </p:grpSpPr>
        <p:sp>
          <p:nvSpPr>
            <p:cNvPr id="1054" name="TextBox 3"/>
            <p:cNvSpPr/>
            <p:nvPr/>
          </p:nvSpPr>
          <p:spPr>
            <a:xfrm>
              <a:off x="468000" y="488808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规范解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缺角矩形 43"/>
            <p:cNvSpPr/>
            <p:nvPr/>
          </p:nvSpPr>
          <p:spPr>
            <a:xfrm>
              <a:off x="363600" y="500868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文本框 39"/>
          <p:cNvSpPr/>
          <p:nvPr/>
        </p:nvSpPr>
        <p:spPr>
          <a:xfrm>
            <a:off x="576360" y="5264280"/>
            <a:ext cx="32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+32=67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：两班一共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6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8" name="Rectangle 64"/>
          <p:cNvSpPr/>
          <p:nvPr/>
        </p:nvSpPr>
        <p:spPr>
          <a:xfrm>
            <a:off x="525600" y="14940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图片 2" descr=""/>
          <p:cNvPicPr/>
          <p:nvPr/>
        </p:nvPicPr>
        <p:blipFill>
          <a:blip r:embed="rId8"/>
          <a:stretch/>
        </p:blipFill>
        <p:spPr>
          <a:xfrm>
            <a:off x="1046160" y="1495440"/>
            <a:ext cx="2639880" cy="1154160"/>
          </a:xfrm>
          <a:prstGeom prst="rect">
            <a:avLst/>
          </a:prstGeom>
          <a:ln w="0">
            <a:noFill/>
          </a:ln>
        </p:spPr>
      </p:pic>
      <p:grpSp>
        <p:nvGrpSpPr>
          <p:cNvPr id="1070" name="组合 4"/>
          <p:cNvGrpSpPr/>
          <p:nvPr/>
        </p:nvGrpSpPr>
        <p:grpSpPr>
          <a:xfrm>
            <a:off x="674640" y="2712960"/>
            <a:ext cx="2941560" cy="1152720"/>
            <a:chOff x="674640" y="2712960"/>
            <a:chExt cx="2941560" cy="1152720"/>
          </a:xfrm>
        </p:grpSpPr>
        <p:pic>
          <p:nvPicPr>
            <p:cNvPr id="1071" name="图片 3" descr=""/>
            <p:cNvPicPr/>
            <p:nvPr/>
          </p:nvPicPr>
          <p:blipFill>
            <a:blip r:embed="rId9"/>
            <a:stretch/>
          </p:blipFill>
          <p:spPr>
            <a:xfrm>
              <a:off x="976320" y="2712960"/>
              <a:ext cx="263988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内容占位符 4" descr="图形4.tif"/>
            <p:cNvPicPr/>
            <p:nvPr/>
          </p:nvPicPr>
          <p:blipFill>
            <a:blip r:embed="rId10"/>
            <a:srcRect l="0" t="0" r="81480" b="0"/>
            <a:stretch/>
          </p:blipFill>
          <p:spPr>
            <a:xfrm>
              <a:off x="674640" y="2935440"/>
              <a:ext cx="485280" cy="82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3" name="文本框 6"/>
          <p:cNvSpPr/>
          <p:nvPr/>
        </p:nvSpPr>
        <p:spPr>
          <a:xfrm>
            <a:off x="676440" y="819000"/>
            <a:ext cx="39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一摆，算一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组合 9"/>
          <p:cNvGrpSpPr/>
          <p:nvPr/>
        </p:nvGrpSpPr>
        <p:grpSpPr>
          <a:xfrm>
            <a:off x="4929120" y="1822320"/>
            <a:ext cx="1641600" cy="2013120"/>
            <a:chOff x="4929120" y="1822320"/>
            <a:chExt cx="1641600" cy="2013120"/>
          </a:xfrm>
        </p:grpSpPr>
        <p:sp>
          <p:nvSpPr>
            <p:cNvPr id="1075" name="文本框 7"/>
            <p:cNvSpPr/>
            <p:nvPr/>
          </p:nvSpPr>
          <p:spPr>
            <a:xfrm>
              <a:off x="4929120" y="1822320"/>
              <a:ext cx="16416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直接连接符 8"/>
            <p:cNvSpPr/>
            <p:nvPr/>
          </p:nvSpPr>
          <p:spPr>
            <a:xfrm>
              <a:off x="4968720" y="3293280"/>
              <a:ext cx="156528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文本框 10"/>
          <p:cNvSpPr/>
          <p:nvPr/>
        </p:nvSpPr>
        <p:spPr>
          <a:xfrm>
            <a:off x="5483160" y="2001960"/>
            <a:ext cx="9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12"/>
          <p:cNvSpPr/>
          <p:nvPr/>
        </p:nvSpPr>
        <p:spPr>
          <a:xfrm>
            <a:off x="5475240" y="264636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14"/>
          <p:cNvSpPr/>
          <p:nvPr/>
        </p:nvSpPr>
        <p:spPr>
          <a:xfrm>
            <a:off x="5499000" y="3282840"/>
            <a:ext cx="9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1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32"/>
          <p:cNvSpPr/>
          <p:nvPr/>
        </p:nvSpPr>
        <p:spPr>
          <a:xfrm>
            <a:off x="355680" y="1389240"/>
            <a:ext cx="84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笔算两位数加两位数（不进位加）时，要把相同数位对齐，从个位加起，个位上的数相加得到的数写在得数的个位上，十位上的数相加得到的数写在得数的十位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4" name="Rectangle 64"/>
          <p:cNvSpPr/>
          <p:nvPr/>
        </p:nvSpPr>
        <p:spPr>
          <a:xfrm>
            <a:off x="525600" y="14940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组合 9"/>
          <p:cNvGrpSpPr/>
          <p:nvPr/>
        </p:nvGrpSpPr>
        <p:grpSpPr>
          <a:xfrm>
            <a:off x="911160" y="1876320"/>
            <a:ext cx="1641600" cy="2013120"/>
            <a:chOff x="911160" y="1876320"/>
            <a:chExt cx="1641600" cy="2013120"/>
          </a:xfrm>
        </p:grpSpPr>
        <p:sp>
          <p:nvSpPr>
            <p:cNvPr id="1106" name="文本框 7"/>
            <p:cNvSpPr/>
            <p:nvPr/>
          </p:nvSpPr>
          <p:spPr>
            <a:xfrm>
              <a:off x="911160" y="1876320"/>
              <a:ext cx="16416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直接连接符 8"/>
            <p:cNvSpPr/>
            <p:nvPr/>
          </p:nvSpPr>
          <p:spPr>
            <a:xfrm>
              <a:off x="950760" y="3347280"/>
              <a:ext cx="156528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1"/>
          <p:cNvGrpSpPr/>
          <p:nvPr/>
        </p:nvGrpSpPr>
        <p:grpSpPr>
          <a:xfrm>
            <a:off x="3570120" y="1876320"/>
            <a:ext cx="1641600" cy="2013120"/>
            <a:chOff x="3570120" y="1876320"/>
            <a:chExt cx="1641600" cy="2013120"/>
          </a:xfrm>
        </p:grpSpPr>
        <p:sp>
          <p:nvSpPr>
            <p:cNvPr id="1109" name="文本框 15"/>
            <p:cNvSpPr/>
            <p:nvPr/>
          </p:nvSpPr>
          <p:spPr>
            <a:xfrm>
              <a:off x="3570120" y="1876320"/>
              <a:ext cx="16416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直接连接符 16"/>
            <p:cNvSpPr/>
            <p:nvPr/>
          </p:nvSpPr>
          <p:spPr>
            <a:xfrm>
              <a:off x="3609720" y="3347280"/>
              <a:ext cx="156528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17"/>
          <p:cNvGrpSpPr/>
          <p:nvPr/>
        </p:nvGrpSpPr>
        <p:grpSpPr>
          <a:xfrm>
            <a:off x="6229440" y="1876320"/>
            <a:ext cx="1641240" cy="2013120"/>
            <a:chOff x="6229440" y="1876320"/>
            <a:chExt cx="1641240" cy="2013120"/>
          </a:xfrm>
        </p:grpSpPr>
        <p:sp>
          <p:nvSpPr>
            <p:cNvPr id="1112" name="文本框 18"/>
            <p:cNvSpPr/>
            <p:nvPr/>
          </p:nvSpPr>
          <p:spPr>
            <a:xfrm>
              <a:off x="6229440" y="1876320"/>
              <a:ext cx="164124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直接连接符 19"/>
            <p:cNvSpPr/>
            <p:nvPr/>
          </p:nvSpPr>
          <p:spPr>
            <a:xfrm>
              <a:off x="6269040" y="3347280"/>
              <a:ext cx="156528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文本框 20"/>
          <p:cNvSpPr/>
          <p:nvPr/>
        </p:nvSpPr>
        <p:spPr>
          <a:xfrm>
            <a:off x="1119240" y="11955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+6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21"/>
          <p:cNvSpPr/>
          <p:nvPr/>
        </p:nvSpPr>
        <p:spPr>
          <a:xfrm>
            <a:off x="3801960" y="1195560"/>
            <a:ext cx="15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+2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22"/>
          <p:cNvSpPr/>
          <p:nvPr/>
        </p:nvSpPr>
        <p:spPr>
          <a:xfrm>
            <a:off x="6486480" y="11955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+4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23"/>
          <p:cNvSpPr/>
          <p:nvPr/>
        </p:nvSpPr>
        <p:spPr>
          <a:xfrm>
            <a:off x="1465200" y="2055960"/>
            <a:ext cx="9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24"/>
          <p:cNvSpPr/>
          <p:nvPr/>
        </p:nvSpPr>
        <p:spPr>
          <a:xfrm>
            <a:off x="1457280" y="268452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25"/>
          <p:cNvSpPr/>
          <p:nvPr/>
        </p:nvSpPr>
        <p:spPr>
          <a:xfrm>
            <a:off x="1467000" y="333684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26"/>
          <p:cNvSpPr/>
          <p:nvPr/>
        </p:nvSpPr>
        <p:spPr>
          <a:xfrm>
            <a:off x="4132440" y="205596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27"/>
          <p:cNvSpPr/>
          <p:nvPr/>
        </p:nvSpPr>
        <p:spPr>
          <a:xfrm>
            <a:off x="4124160" y="268452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28"/>
          <p:cNvSpPr/>
          <p:nvPr/>
        </p:nvSpPr>
        <p:spPr>
          <a:xfrm>
            <a:off x="4133880" y="333684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5"/>
          <p:cNvSpPr/>
          <p:nvPr/>
        </p:nvSpPr>
        <p:spPr>
          <a:xfrm>
            <a:off x="6799320" y="205596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36"/>
          <p:cNvSpPr/>
          <p:nvPr/>
        </p:nvSpPr>
        <p:spPr>
          <a:xfrm>
            <a:off x="6791400" y="268452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37"/>
          <p:cNvSpPr/>
          <p:nvPr/>
        </p:nvSpPr>
        <p:spPr>
          <a:xfrm>
            <a:off x="6800760" y="333684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38"/>
          <p:cNvSpPr/>
          <p:nvPr/>
        </p:nvSpPr>
        <p:spPr>
          <a:xfrm>
            <a:off x="2382840" y="1189080"/>
            <a:ext cx="5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39"/>
          <p:cNvSpPr/>
          <p:nvPr/>
        </p:nvSpPr>
        <p:spPr>
          <a:xfrm>
            <a:off x="5043600" y="1181160"/>
            <a:ext cx="5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40"/>
          <p:cNvSpPr/>
          <p:nvPr/>
        </p:nvSpPr>
        <p:spPr>
          <a:xfrm>
            <a:off x="7746840" y="118728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0" name=""/>
          <p:cNvSpPr txBox="1"/>
          <p:nvPr/>
        </p:nvSpPr>
        <p:spPr>
          <a:xfrm>
            <a:off x="365040" y="136692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田爷爷说：我今天买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西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红爷爷说：我买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聪明的你，能帮他们算一算，他们一共买了多少个西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4"/>
          <p:cNvSpPr/>
          <p:nvPr/>
        </p:nvSpPr>
        <p:spPr>
          <a:xfrm>
            <a:off x="436680" y="115920"/>
            <a:ext cx="264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后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25"/>
          <p:cNvSpPr/>
          <p:nvPr/>
        </p:nvSpPr>
        <p:spPr>
          <a:xfrm>
            <a:off x="441360" y="3479760"/>
            <a:ext cx="815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42+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5=57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他们一共买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7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个西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8:12Z</dcterms:modified>
  <cp:revision>1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